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52.png" ContentType="image/png"/>
  <Override PartName="/ppt/media/image50.jpeg" ContentType="image/jpeg"/>
  <Override PartName="/ppt/media/image47.jpeg" ContentType="image/jpeg"/>
  <Override PartName="/ppt/media/image6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10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77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76.png" ContentType="image/png"/>
  <Override PartName="/ppt/media/image64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67.png" ContentType="image/png"/>
  <Override PartName="/ppt/media/image66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16D0-39D0-461D-ACC0-FB4A1304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1D63-0719-4171-97BF-27E7F079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9A56-BF5A-477D-8FB9-F50AF505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EBD3-2545-469F-9630-6C793F43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A461-3F1A-4D0C-9C84-A074495C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9F1C-1826-40B3-914C-A44560DD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D30D-17B4-42E3-9E49-565305AA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8C6E-A920-4766-845A-73869F41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472-8F30-46B2-B446-2FB74565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341-FBAE-476E-8ED3-F0335DFF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27E7-B586-419F-B0C3-B0134E99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EE7A-6C7B-4F1E-8668-66EE5F2F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DFED-8A6D-4CD9-A017-D9E0DAEF82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image" Target="../media/image73.png"/><Relationship Id="rId11" Type="http://schemas.openxmlformats.org/officeDocument/2006/relationships/image" Target="../media/image74.png"/><Relationship Id="rId1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2565000"/>
            <a:ext cx="82072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14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хеме рис. 1.23 найти сопротивл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если І1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2,6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0,6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0,5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ом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4 ом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3 ом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5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ом, Найти э.д.с. батареи Е, если ее внутреннее сопротивл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0,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1 ом,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40323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195640" y="2322360"/>
            <a:ext cx="4752720" cy="22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16. В цепи рис. 1.25 найти Е1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если Е2 = 3 в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= 1 ком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= 4 ком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=2 ком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= 1 ком. Амперметр А1 показывает 4 ма, а А4 – 3 ма; полярности приборов показаны на схеме, а их  сопротивлениями можно пренебре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17. Однопроводная линия с сопротивление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 на единицу длины, питаемая батареей с э. д. с., равной Е, закорочена на приемном конце (рис. 1.26). На каком месте линия должна иметь утечку с сопротивление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чтобы  то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приемном конце был максималь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18. Для определения места повреждения изоляции линии применяется схема, изображенная на рис. 1.27, а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 - магазины сопротивлений. Правый зажим гальванометра заземле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2843280" y="1944720"/>
            <a:ext cx="345744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37432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042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бодные концы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линии соединены между собой накоротко. Подбором сопротивлени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и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 добиваются отсутствия тока в гальванометре. Показать, что если сечения обоих проводов одинаковы, то расстояния от места повреждения изоляции до начала линии равно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каз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Заданная схема может быть заменена схемой рис. 1.27. 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19. При проверке постоянной С счетчика оказалось, что при токе 10 а и напряжении 120 в якорь его в продолжение 30 сек сделал 37 оборотов. Определить ошибку в показаниях счетчика, если на счетчике указано, что 1гвтч соответствует 400 оборотам счетч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меч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Постоянной счетчика называется число ват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ов, приходящихся на один оборот счетч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20. каково должно быть сечение медных проводов линии для передачи потребителю мощности Р=16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 при условии, что потеря мощности не превысит  р = 5 %, если длина линии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180 м и напряжение в конце линии равн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=220 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Решение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основании первого закона Кирхгоф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=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2,6-0,6 = 2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21. Для схемы рис. 1.28, пользуясь законами Кир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фа, найти токи и проверить баланс мощностей, если э. д. с. Генераторов напряжения: Е1 = 15 в, Е2 =70 в, Е3 = 5 в, их 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енние сопротивления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=1 ом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=2 ом, сопротивления элементов в цепи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=5 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ом, r2=4 ом, r3=8 ом, r4=2,5 ом, r5=15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753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сего в схеме пять ветв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                                   ), число узлов                   , генераторов тока нет          ,число неизвестных токов равно                  . Число независимых уравнений, составляемых по первому закону Кирхгофа, равно числу узлов минус единица, т.е. двум                        . Число уравнений, составляемых по второму закону Кирхгофа, согласно (1.10), равно тр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                                                       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826920" y="2060640"/>
                <a:ext cx="324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bfa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d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ba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c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8"/>
              <p:cNvSpPr txBox="1"/>
              <p:nvPr/>
            </p:nvSpPr>
            <p:spPr>
              <a:xfrm>
                <a:off x="3817800" y="34448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0"/>
              <p:cNvSpPr txBox="1"/>
              <p:nvPr/>
            </p:nvSpPr>
            <p:spPr>
              <a:xfrm>
                <a:off x="6084720" y="2133720"/>
                <a:ext cx="129564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12"/>
              <p:cNvSpPr txBox="1"/>
              <p:nvPr/>
            </p:nvSpPr>
            <p:spPr>
              <a:xfrm>
                <a:off x="3924360" y="2492280"/>
                <a:ext cx="863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4"/>
              <p:cNvSpPr txBox="1"/>
              <p:nvPr/>
            </p:nvSpPr>
            <p:spPr>
              <a:xfrm>
                <a:off x="1835280" y="2852640"/>
                <a:ext cx="129528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8"/>
              <p:cNvSpPr txBox="1"/>
              <p:nvPr/>
            </p:nvSpPr>
            <p:spPr>
              <a:xfrm>
                <a:off x="6300720" y="3573360"/>
                <a:ext cx="19447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Rectangle 21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0"/>
              <p:cNvSpPr txBox="1"/>
              <p:nvPr/>
            </p:nvSpPr>
            <p:spPr>
              <a:xfrm>
                <a:off x="1258920" y="4724280"/>
                <a:ext cx="439272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Rectangle 22"/>
          <p:cNvSpPr/>
          <p:nvPr/>
        </p:nvSpPr>
        <p:spPr>
          <a:xfrm>
            <a:off x="720" y="33944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м образом, общее число независимых уравнений, составляемых по первому и второму законам Кирхгофа, равно числу неизвестных токов в пяти ветвях сх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ерем положительные направления токов и обозначим их стрелками. Выберем и обозначим стрелками направление обхода трех независимых контуров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оставим систему уравнений Кирхгоф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6920" y="1267920"/>
            <a:ext cx="302436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 уз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>
            <a:biLevel thresh="50000"/>
            <a:lum bright="-30000"/>
          </a:blip>
          <a:stretch/>
        </p:blipFill>
        <p:spPr>
          <a:xfrm>
            <a:off x="4498920" y="1484280"/>
            <a:ext cx="2809800" cy="30960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sp>
        <p:nvSpPr>
          <p:cNvPr id="97" name="Rectangle 5"/>
          <p:cNvSpPr/>
          <p:nvPr/>
        </p:nvSpPr>
        <p:spPr>
          <a:xfrm>
            <a:off x="1187280" y="2060640"/>
            <a:ext cx="288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 узла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187280" y="2637000"/>
            <a:ext cx="295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онту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2">
            <a:biLevel thresh="50000"/>
            <a:lum bright="-30000"/>
          </a:blip>
          <a:stretch/>
        </p:blipFill>
        <p:spPr>
          <a:xfrm>
            <a:off x="4643280" y="2133720"/>
            <a:ext cx="2521080" cy="28728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100" name="Picture 8" descr=""/>
          <p:cNvPicPr/>
          <p:nvPr/>
        </p:nvPicPr>
        <p:blipFill>
          <a:blip r:embed="rId3">
            <a:biLevel thresh="50000"/>
            <a:lum bright="-30000"/>
          </a:blip>
          <a:stretch/>
        </p:blipFill>
        <p:spPr>
          <a:xfrm>
            <a:off x="4137120" y="2797200"/>
            <a:ext cx="3603600" cy="39996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sp>
        <p:nvSpPr>
          <p:cNvPr id="101" name="Rectangle 9"/>
          <p:cNvSpPr/>
          <p:nvPr/>
        </p:nvSpPr>
        <p:spPr>
          <a:xfrm>
            <a:off x="1187280" y="3429000"/>
            <a:ext cx="29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онту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1187280" y="4221000"/>
            <a:ext cx="295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онту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"/>
          <p:cNvPicPr/>
          <p:nvPr/>
        </p:nvPicPr>
        <p:blipFill>
          <a:blip r:embed="rId4">
            <a:biLevel thresh="50000"/>
            <a:lum bright="-30000"/>
          </a:blip>
          <a:stretch/>
        </p:blipFill>
        <p:spPr>
          <a:xfrm>
            <a:off x="4497480" y="3559320"/>
            <a:ext cx="3746520" cy="38736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104" name="Picture 12" descr=""/>
          <p:cNvPicPr/>
          <p:nvPr/>
        </p:nvPicPr>
        <p:blipFill>
          <a:blip r:embed="rId5">
            <a:biLevel thresh="50000"/>
            <a:lum bright="-24000"/>
          </a:blip>
          <a:stretch/>
        </p:blipFill>
        <p:spPr>
          <a:xfrm>
            <a:off x="4284720" y="4365720"/>
            <a:ext cx="3889440" cy="33948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авнения (1) - (5) после подстановки в них числовых значений будут иметь следующий вид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116000" y="2637000"/>
            <a:ext cx="6985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 – i2 + i3 + i5 =0;    i1 + i3 +i4 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1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3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;   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3 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5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4 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5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;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2 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5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468360" y="3933720"/>
            <a:ext cx="8229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1619280" y="38883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ая эту систему уравнений, получ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1"/>
          <a:stretch/>
        </p:blipFill>
        <p:spPr>
          <a:xfrm>
            <a:off x="1332000" y="4489560"/>
            <a:ext cx="1584360" cy="904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"/>
          <p:cNvPicPr/>
          <p:nvPr/>
        </p:nvPicPr>
        <p:blipFill>
          <a:blip r:embed="rId2"/>
          <a:stretch/>
        </p:blipFill>
        <p:spPr>
          <a:xfrm>
            <a:off x="3062160" y="4619520"/>
            <a:ext cx="1438560" cy="704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"/>
          <p:cNvPicPr/>
          <p:nvPr/>
        </p:nvPicPr>
        <p:blipFill>
          <a:blip r:embed="rId3"/>
          <a:stretch/>
        </p:blipFill>
        <p:spPr>
          <a:xfrm>
            <a:off x="4716360" y="4581360"/>
            <a:ext cx="1336680" cy="739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"/>
          <p:cNvPicPr/>
          <p:nvPr/>
        </p:nvPicPr>
        <p:blipFill>
          <a:blip r:embed="rId4"/>
          <a:stretch/>
        </p:blipFill>
        <p:spPr>
          <a:xfrm>
            <a:off x="6227640" y="4581360"/>
            <a:ext cx="1606680" cy="739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"/>
          <p:cNvPicPr/>
          <p:nvPr/>
        </p:nvPicPr>
        <p:blipFill>
          <a:blip r:embed="rId5"/>
          <a:stretch/>
        </p:blipFill>
        <p:spPr>
          <a:xfrm>
            <a:off x="3925800" y="5289480"/>
            <a:ext cx="14382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ицательный для тока  означает, что истинное направление тока, в сопротивлении  противоположно принятому. Истинное направление тока в сопротивлении обозначено  и показано на схеме штриховой стрелко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роверке баланса мощностей надо иметь в виду, что в тех ветвях цепи, где истинное направление тока совпадает с направлением э. д. с., соответствующая э. д. с. Является источником энергии, а в тех участках , где направления э. д. с и тока противоположны, э. д. с – потребитель энергии. Все сопротивления, как внешние, так и генераторов энергии, независимо от протекающего через них тока будут являться потребителями энер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ланс мощностей для рассматриваемой схемы [см. формулы(1.39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>
            <a:biLevel thresh="50000"/>
            <a:lum bright="-24000"/>
          </a:blip>
          <a:stretch/>
        </p:blipFill>
        <p:spPr>
          <a:xfrm>
            <a:off x="1835280" y="2133720"/>
            <a:ext cx="5616360" cy="109512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sp>
        <p:nvSpPr>
          <p:cNvPr id="120" name="Rectangle 5"/>
          <p:cNvSpPr/>
          <p:nvPr/>
        </p:nvSpPr>
        <p:spPr>
          <a:xfrm>
            <a:off x="4067280" y="3429000"/>
            <a:ext cx="93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2">
            <a:biLevel thresh="50000"/>
            <a:lum bright="-18000"/>
          </a:blip>
          <a:stretch/>
        </p:blipFill>
        <p:spPr>
          <a:xfrm>
            <a:off x="1547640" y="4221000"/>
            <a:ext cx="6120000" cy="57636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122" name="Rectangle 7"/>
          <p:cNvSpPr/>
          <p:nvPr/>
        </p:nvSpPr>
        <p:spPr>
          <a:xfrm>
            <a:off x="2195640" y="5300640"/>
            <a:ext cx="5113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ено тождество 630=63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22. В схеме рис. 1.29 найти все то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23. Для цепи, изображённой на рис, 1.30, рассчитать токи и определить показание вольтметра, если 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м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м. Током, протекающим через вольтметр, можно пренеб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1835280" y="2852640"/>
                <a:ext cx="11523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3419640" y="2781360"/>
                <a:ext cx="8632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0"/>
              <p:cNvSpPr txBox="1"/>
              <p:nvPr/>
            </p:nvSpPr>
            <p:spPr>
              <a:xfrm>
                <a:off x="4788000" y="2852640"/>
                <a:ext cx="8650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2"/>
              <p:cNvSpPr txBox="1"/>
              <p:nvPr/>
            </p:nvSpPr>
            <p:spPr>
              <a:xfrm>
                <a:off x="5867280" y="2852640"/>
                <a:ext cx="64800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Rectangle 1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4"/>
              <p:cNvSpPr txBox="1"/>
              <p:nvPr/>
            </p:nvSpPr>
            <p:spPr>
              <a:xfrm>
                <a:off x="900000" y="3213000"/>
                <a:ext cx="1800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475272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3280" y="213336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По закону Ома, примененному к участку цепи, содержащему сопротивлени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>
            <a:biLevel thresh="50000"/>
            <a:lum bright="-18000"/>
          </a:blip>
          <a:srcRect l="21223" t="30709" r="46064" b="62111"/>
          <a:stretch/>
        </p:blipFill>
        <p:spPr>
          <a:xfrm>
            <a:off x="1979640" y="4149720"/>
            <a:ext cx="5040360" cy="8636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556000" y="1197000"/>
            <a:ext cx="403200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24. Аккумуляторная батарея из 20 последовательно соединённых элементов работает параллельно с генератором на сеть, имеющую нагрузку 3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Каждый аккумулятор имеет э. д. с 1.82 в и сопротивление 0.001 Ом. Э. д. с генератора 36.4 в и его сопротивление 0.04 Ом. Определить нагрузку генератора и батареи (т.е. отдаваемые им токи)  и напряжение на зажим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15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ую э. д. с должен развивать генератор, чтобы нагрузка распределилась поровну между генератором и батаре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>
            <a:biLevel thresh="50000"/>
            <a:lum bright="-18000"/>
          </a:blip>
          <a:stretch/>
        </p:blipFill>
        <p:spPr>
          <a:xfrm>
            <a:off x="1979640" y="1413000"/>
            <a:ext cx="4968720" cy="361296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25. По трех проводной линии длиной 0.5 км (рис 1.31) от двух генераторов 1 и 2 питаются две группы ламп 50 Вт, 110 в. В первой группе  ламп, а во второй  ламп. Сечение крайних проводо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35 мм, а сечение среднего (нулевого) провода =16 мм.Каждый генератор имеет внутреннее сопротивление 0.01 Ом и  развивает э. д. с 120 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токи во всех проводах линии и напряжение на зажимах каждой группы ламп, сопротивления которых считать постоянными. Материал проводов линии – мед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26. Напряжения, измеренные электростатическими вольтметром между узловыми точками схемы и землёй равны       =-15 в,      =52 в,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рис.1.32). Определить токи в ветвях и отходящих проводах п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5435640" y="3860640"/>
                <a:ext cx="5032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6948360" y="3860640"/>
                <a:ext cx="5050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8"/>
              <p:cNvSpPr txBox="1"/>
              <p:nvPr/>
            </p:nvSpPr>
            <p:spPr>
              <a:xfrm>
                <a:off x="971640" y="4365720"/>
                <a:ext cx="10792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0"/>
              <p:cNvSpPr txBox="1"/>
              <p:nvPr/>
            </p:nvSpPr>
            <p:spPr>
              <a:xfrm>
                <a:off x="1042920" y="5229360"/>
                <a:ext cx="62658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в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в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числим напряжения между точками 1 и 2, 1 и 3, 3 и 1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24000" y="47242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2484360" y="2887560"/>
            <a:ext cx="4032360" cy="488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2"/>
          <a:stretch/>
        </p:blipFill>
        <p:spPr>
          <a:xfrm>
            <a:off x="2411280" y="3933720"/>
            <a:ext cx="4213440" cy="492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3"/>
          <a:stretch/>
        </p:blipFill>
        <p:spPr>
          <a:xfrm>
            <a:off x="2627280" y="5013360"/>
            <a:ext cx="381960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льно выберем положительные направления токов ветвей и укажем их стрел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>
            <a:biLevel thresh="50000"/>
            <a:lum bright="-30000"/>
          </a:blip>
          <a:stretch/>
        </p:blipFill>
        <p:spPr>
          <a:xfrm>
            <a:off x="2050920" y="1852560"/>
            <a:ext cx="4826160" cy="30067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я к ветвям закон Ома, определ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835280" y="5013360"/>
            <a:ext cx="5111640" cy="852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167" name="Picture 8" descr=""/>
          <p:cNvPicPr/>
          <p:nvPr/>
        </p:nvPicPr>
        <p:blipFill>
          <a:blip r:embed="rId2"/>
          <a:stretch/>
        </p:blipFill>
        <p:spPr>
          <a:xfrm>
            <a:off x="2987640" y="2565360"/>
            <a:ext cx="3025800" cy="978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"/>
          <p:cNvPicPr/>
          <p:nvPr/>
        </p:nvPicPr>
        <p:blipFill>
          <a:blip r:embed="rId3"/>
          <a:stretch/>
        </p:blipFill>
        <p:spPr>
          <a:xfrm>
            <a:off x="3203640" y="3716280"/>
            <a:ext cx="25430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>
            <a:biLevel thresh="50000"/>
            <a:lum bright="-12000"/>
          </a:blip>
          <a:srcRect l="62378" t="19980" r="10261" b="57534"/>
          <a:stretch/>
        </p:blipFill>
        <p:spPr>
          <a:xfrm>
            <a:off x="2268360" y="1268280"/>
            <a:ext cx="4667400" cy="35006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ки в ответвлениях от узловых точек находим по первому закону Кирхгоф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2916360" y="2924280"/>
            <a:ext cx="3168360" cy="717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2"/>
          <a:stretch/>
        </p:blipFill>
        <p:spPr>
          <a:xfrm>
            <a:off x="3276720" y="3789360"/>
            <a:ext cx="2514600" cy="682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3"/>
          <a:stretch/>
        </p:blipFill>
        <p:spPr>
          <a:xfrm>
            <a:off x="2924280" y="4857840"/>
            <a:ext cx="30160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>
            <a:biLevel thresh="50000"/>
            <a:lum bright="-24000"/>
          </a:blip>
          <a:stretch/>
        </p:blipFill>
        <p:spPr>
          <a:xfrm>
            <a:off x="2554200" y="988920"/>
            <a:ext cx="3962520" cy="3873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>
            <a:biLevel thresh="50000"/>
            <a:lum bright="-24000"/>
          </a:blip>
          <a:stretch/>
        </p:blipFill>
        <p:spPr>
          <a:xfrm>
            <a:off x="2633760" y="1054080"/>
            <a:ext cx="3660840" cy="374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     и       получилось со знаком минус. Это указывает на то, что через узлы 1 и 3 в схему протекают “истинные” положительные токи     и       , обозначенные на схеме штрихованными стре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27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пи рис.1.33 известны э.д.с.                            и сопротивления                                          Потенциалы точе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носительно земли соответственно равны (определены посредством вольтметра)                                                         . Определить токи в ветвях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 провод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ходящих к точка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1763640" y="1557360"/>
                <a:ext cx="319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6"/>
              <p:cNvSpPr txBox="1"/>
              <p:nvPr/>
            </p:nvSpPr>
            <p:spPr>
              <a:xfrm>
                <a:off x="2411280" y="1557360"/>
                <a:ext cx="306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12"/>
              <p:cNvSpPr txBox="1"/>
              <p:nvPr/>
            </p:nvSpPr>
            <p:spPr>
              <a:xfrm>
                <a:off x="7164360" y="2205000"/>
                <a:ext cx="3189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4" name="Rectangle 1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4"/>
              <p:cNvSpPr txBox="1"/>
              <p:nvPr/>
            </p:nvSpPr>
            <p:spPr>
              <a:xfrm>
                <a:off x="7812000" y="2276640"/>
                <a:ext cx="306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" name="Rectangle 1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16"/>
              <p:cNvSpPr txBox="1"/>
              <p:nvPr/>
            </p:nvSpPr>
            <p:spPr>
              <a:xfrm>
                <a:off x="6084720" y="2997360"/>
                <a:ext cx="266544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в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в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8"/>
              <p:cNvSpPr txBox="1"/>
              <p:nvPr/>
            </p:nvSpPr>
            <p:spPr>
              <a:xfrm>
                <a:off x="3564000" y="3357720"/>
                <a:ext cx="41767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2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20"/>
              <p:cNvSpPr txBox="1"/>
              <p:nvPr/>
            </p:nvSpPr>
            <p:spPr>
              <a:xfrm>
                <a:off x="2771640" y="4292640"/>
                <a:ext cx="4753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в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в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Rectangle 2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22"/>
              <p:cNvSpPr txBox="1"/>
              <p:nvPr/>
            </p:nvSpPr>
            <p:spPr>
              <a:xfrm>
                <a:off x="971640" y="4941720"/>
                <a:ext cx="5688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e>
                      <m:sup/>
                    </m:sSup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e>
                      <m:sup/>
                    </m:sSup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e>
                      <m:sup/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28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пи рис.1.34 найти токи и показания вольтметров, если известно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противления вольтметра весьма велики по сравнению с сопротивлениями элементов цеп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468360" y="2492280"/>
                <a:ext cx="80280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в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в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в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3311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600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29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хемы рис.1.35, а найти токи и проверить баланс мощностей, есл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каз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Данная схема может быть заменена эквивалентной, в которой между точкам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ключены источники напряжения с э.д.с., численное значение которых                 и                   (рис.1.35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Обращаем внимание на то, что при включении э.д.с. следует соблюдать заданные полярности напря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1116000" y="2276640"/>
                <a:ext cx="626580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в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,6</m:t>
                    </m:r>
                    <m:r>
                      <m:t xml:space="preserve">в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3564000" y="3716280"/>
                <a:ext cx="1152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6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8"/>
              <p:cNvSpPr txBox="1"/>
              <p:nvPr/>
            </p:nvSpPr>
            <p:spPr>
              <a:xfrm>
                <a:off x="5219640" y="3716280"/>
                <a:ext cx="1224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9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321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54734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Применим закон Ома к участку цеп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b,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содержащему э.д.с. Е и сопротивлен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1 и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. 1.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0, найдем искомую э.д.с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rcRect l="26981" t="34547" r="21076" b="60039"/>
          <a:stretch/>
        </p:blipFill>
        <p:spPr>
          <a:xfrm>
            <a:off x="900000" y="4437000"/>
            <a:ext cx="7131240" cy="43200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3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му равно показание вольтметра на рис.1.37, если током вольтметра можно пренебречь по сравнению с током в нагрузк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 показания вольтметра и убедиться в том, что их сумма равна сумме мощностей, расходуемых в сопротивле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    . Потерями в катушках ваттметров пренебре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3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источнику то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0,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ключены сопротивления                (рис,1.38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=10 ом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=16ом 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=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=60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 напряже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а тока и все токи. Проверить баланс мощ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900000" y="2997360"/>
                <a:ext cx="5763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4" name="Rectangle 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8"/>
              <p:cNvSpPr txBox="1"/>
              <p:nvPr/>
            </p:nvSpPr>
            <p:spPr>
              <a:xfrm>
                <a:off x="1908000" y="2997360"/>
                <a:ext cx="4064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. В начале найдем сопротивление схемы между зажимам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2340000" y="2977200"/>
            <a:ext cx="8650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3059280" y="2708280"/>
                <a:ext cx="27810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  <m:r>
                                  <m:t xml:space="preserve">∗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яжение источника  то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b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20*0.1=2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закону Ома находим ток,который проходит чере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2700360" y="3466080"/>
            <a:ext cx="2016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3213000" y="3397320"/>
                <a:ext cx="25113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Rectangle 6"/>
          <p:cNvSpPr/>
          <p:nvPr/>
        </p:nvSpPr>
        <p:spPr>
          <a:xfrm>
            <a:off x="3596400" y="365184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"/>
          <p:cNvPicPr/>
          <p:nvPr/>
        </p:nvPicPr>
        <p:blipFill>
          <a:blip r:embed="rId1">
            <a:biLevel thresh="50000"/>
            <a:lum bright="-18000"/>
          </a:blip>
          <a:srcRect l="0" t="0" r="0" b="12176"/>
          <a:stretch/>
        </p:blipFill>
        <p:spPr>
          <a:xfrm>
            <a:off x="1403280" y="1628640"/>
            <a:ext cx="5689800" cy="318456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,проходяший чере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найдем из уравнения первого закона Кирхгоф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=0.1-0.08=0.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ток распределятся обратно пропорционально сопротивления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059280" y="3985200"/>
            <a:ext cx="863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3708360" y="3860640"/>
                <a:ext cx="22320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2</m:t>
                        </m:r>
                        <m:r>
                          <m:t xml:space="preserve">a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Rectangle 6"/>
          <p:cNvSpPr/>
          <p:nvPr/>
        </p:nvSpPr>
        <p:spPr>
          <a:xfrm>
            <a:off x="3132000" y="4704120"/>
            <a:ext cx="2951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=0.00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ка баланса мощностей. Мощность доставляемая источником то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щность ,расходуемая в нагрузочных сопротивлен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>
            <a:biLevel thresh="50000"/>
            <a:lum bright="-18000"/>
          </a:blip>
          <a:stretch/>
        </p:blipFill>
        <p:spPr>
          <a:xfrm>
            <a:off x="1619280" y="2565360"/>
            <a:ext cx="5327640" cy="69048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235" name="Picture 5" descr=""/>
          <p:cNvPicPr/>
          <p:nvPr/>
        </p:nvPicPr>
        <p:blipFill>
          <a:blip r:embed="rId2">
            <a:biLevel thresh="50000"/>
            <a:lum bright="-24000"/>
          </a:blip>
          <a:stretch/>
        </p:blipFill>
        <p:spPr>
          <a:xfrm>
            <a:off x="395280" y="4005360"/>
            <a:ext cx="8353440" cy="83160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pic>
        <p:nvPicPr>
          <p:cNvPr id="236" name="Picture 6" descr=""/>
          <p:cNvPicPr/>
          <p:nvPr/>
        </p:nvPicPr>
        <p:blipFill>
          <a:blip r:embed="rId3">
            <a:biLevel thresh="50000"/>
            <a:lum bright="-18000"/>
          </a:blip>
          <a:srcRect l="0" t="0" r="0" b="42219"/>
          <a:stretch/>
        </p:blipFill>
        <p:spPr>
          <a:xfrm>
            <a:off x="2771640" y="5661000"/>
            <a:ext cx="3600720" cy="67464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sp>
        <p:nvSpPr>
          <p:cNvPr id="237" name="Rectangle 7"/>
          <p:cNvSpPr/>
          <p:nvPr/>
        </p:nvSpPr>
        <p:spPr>
          <a:xfrm>
            <a:off x="2700360" y="4940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 получено тожд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33. Источник то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30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рис. 1.39.). Чему равны токи в ветвях, сопротивления которых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=1,8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=1,5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=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Вычислить напряжение на источнике 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34. Цепь рис. 1.40 содержит генератор тока, имеющий внутреннюю проводимос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5 * 10-5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и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о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80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источник напряжения с э.д.с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=230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сопротивле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=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=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0" descr="1"/>
          <p:cNvPicPr/>
          <p:nvPr/>
        </p:nvPicPr>
        <p:blipFill>
          <a:blip r:embed="rId1"/>
          <a:stretch/>
        </p:blipFill>
        <p:spPr>
          <a:xfrm>
            <a:off x="2411280" y="1413000"/>
            <a:ext cx="41785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2"/>
          <p:cNvPicPr/>
          <p:nvPr/>
        </p:nvPicPr>
        <p:blipFill>
          <a:blip r:embed="rId1"/>
          <a:stretch/>
        </p:blipFill>
        <p:spPr>
          <a:xfrm>
            <a:off x="2268360" y="1413000"/>
            <a:ext cx="41752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 е ш е н и е. Выберем положительные направления токов, как это указано на рис. 1.40, и составим уравнения по законам Кирхгофа. Цепь содержит четыре ветв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4), два узла А и В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2), один генератор ток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=1), Число уравнений, составляемых по первому закону Кирхгофа, равн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1=1, а по второму закону Кирхгофа [см. формулу (1.10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y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1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4 – 2 + 1 – 1 =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ерем два независимых конту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е содержащих источника тока. Уравнение для узла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972000" y="458136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ур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3203280" y="4508640"/>
            <a:ext cx="198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1043280" y="5013360"/>
            <a:ext cx="17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ур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3276720" y="4941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1i1 + r2i2 = E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9" descr="Unt1"/>
          <p:cNvPicPr/>
          <p:nvPr/>
        </p:nvPicPr>
        <p:blipFill>
          <a:blip r:embed="rId1"/>
          <a:stretch/>
        </p:blipFill>
        <p:spPr>
          <a:xfrm>
            <a:off x="2700360" y="5445000"/>
            <a:ext cx="3384360" cy="90324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Теперь найдем напряжение на параллельных ветвях с сопротивлениям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4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х и точки в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1692360" y="2852640"/>
            <a:ext cx="5784840" cy="54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2484360" y="3716280"/>
            <a:ext cx="3718080" cy="854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3"/>
          <a:stretch/>
        </p:blipFill>
        <p:spPr>
          <a:xfrm>
            <a:off x="2411280" y="4869000"/>
            <a:ext cx="39052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ляя цифровые значения в эти уравнения и решив их, получим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= 30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30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= 100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10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роверки даланса мощностей вначале определим напряжение на источнике т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Unt1"/>
          <p:cNvPicPr/>
          <p:nvPr/>
        </p:nvPicPr>
        <p:blipFill>
          <a:blip r:embed="rId1"/>
          <a:stretch/>
        </p:blipFill>
        <p:spPr>
          <a:xfrm>
            <a:off x="1692360" y="3500280"/>
            <a:ext cx="5329080" cy="86688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sp>
        <p:nvSpPr>
          <p:cNvPr id="252" name="Rectangle 5"/>
          <p:cNvSpPr/>
          <p:nvPr/>
        </p:nvSpPr>
        <p:spPr>
          <a:xfrm>
            <a:off x="474120" y="4580640"/>
            <a:ext cx="83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щности, доставляемые источником тока и генератором напря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1476360" y="5157720"/>
                <a:ext cx="64087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И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J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30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в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Rectangle 8"/>
          <p:cNvSpPr/>
          <p:nvPr/>
        </p:nvSpPr>
        <p:spPr>
          <a:xfrm>
            <a:off x="2340000" y="573336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е. баланс мощностей соблюд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35 Два источника тока                  и                   (рис. 1.41) включены в схему, содержащую сопротивления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ить все точки и проверить баланс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щ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4"/>
              <p:cNvSpPr txBox="1"/>
              <p:nvPr/>
            </p:nvSpPr>
            <p:spPr>
              <a:xfrm>
                <a:off x="4427640" y="1628640"/>
                <a:ext cx="12967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м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Rectangle 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6"/>
              <p:cNvSpPr txBox="1"/>
              <p:nvPr/>
            </p:nvSpPr>
            <p:spPr>
              <a:xfrm>
                <a:off x="6227640" y="1628640"/>
                <a:ext cx="12970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м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Rectangle 9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8"/>
              <p:cNvSpPr txBox="1"/>
              <p:nvPr/>
            </p:nvSpPr>
            <p:spPr>
              <a:xfrm>
                <a:off x="971640" y="2421000"/>
                <a:ext cx="12240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10"/>
              <p:cNvSpPr txBox="1"/>
              <p:nvPr/>
            </p:nvSpPr>
            <p:spPr>
              <a:xfrm>
                <a:off x="2340000" y="2421000"/>
                <a:ext cx="12254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Rectangle 1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2"/>
              <p:cNvSpPr txBox="1"/>
              <p:nvPr/>
            </p:nvSpPr>
            <p:spPr>
              <a:xfrm>
                <a:off x="3780000" y="2421000"/>
                <a:ext cx="12236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о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2771640" y="1844640"/>
            <a:ext cx="37245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Методы контурных токов и узловых потенц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36. Методом контурных токов найти в цепи, схема которой отображена на рис. 1.42. Дан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4"/>
              <p:cNvSpPr txBox="1"/>
              <p:nvPr/>
            </p:nvSpPr>
            <p:spPr>
              <a:xfrm>
                <a:off x="1547640" y="3357720"/>
                <a:ext cx="568836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в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в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в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в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ом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о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о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о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ом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ом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. Выберем направления контурных токов, которые обозначим через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м систему уравнений для контур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6"/>
              <p:cNvSpPr txBox="1"/>
              <p:nvPr/>
            </p:nvSpPr>
            <p:spPr>
              <a:xfrm>
                <a:off x="4932360" y="1989000"/>
                <a:ext cx="1079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"/>
          <p:cNvPicPr/>
          <p:nvPr/>
        </p:nvPicPr>
        <p:blipFill>
          <a:blip r:embed="rId1">
            <a:biLevel thresh="50000"/>
            <a:lum bright="-18000"/>
          </a:blip>
          <a:stretch/>
        </p:blipFill>
        <p:spPr>
          <a:xfrm>
            <a:off x="2268360" y="1844640"/>
            <a:ext cx="4824720" cy="331308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416120" cy="5014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2"/>
          <a:stretch/>
        </p:blipFill>
        <p:spPr>
          <a:xfrm>
            <a:off x="1042920" y="2349360"/>
            <a:ext cx="7058160" cy="644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3"/>
          <a:stretch/>
        </p:blipFill>
        <p:spPr>
          <a:xfrm>
            <a:off x="1547640" y="3357720"/>
            <a:ext cx="5759640" cy="5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подстановки числовых значений име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3132000" y="2565360"/>
            <a:ext cx="2492640" cy="520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2"/>
          <a:stretch/>
        </p:blipFill>
        <p:spPr>
          <a:xfrm>
            <a:off x="3059280" y="3429000"/>
            <a:ext cx="2657160" cy="343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"/>
          <p:cNvPicPr/>
          <p:nvPr/>
        </p:nvPicPr>
        <p:blipFill>
          <a:blip r:embed="rId3"/>
          <a:stretch/>
        </p:blipFill>
        <p:spPr>
          <a:xfrm>
            <a:off x="3132000" y="4005360"/>
            <a:ext cx="244476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ив эту систему уравнений, найдем контурные то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1140120" cy="4096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"/>
          <p:cNvPicPr/>
          <p:nvPr/>
        </p:nvPicPr>
        <p:blipFill>
          <a:blip r:embed="rId2"/>
          <a:stretch/>
        </p:blipFill>
        <p:spPr>
          <a:xfrm>
            <a:off x="3276720" y="2708280"/>
            <a:ext cx="1152360" cy="444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"/>
          <p:cNvPicPr/>
          <p:nvPr/>
        </p:nvPicPr>
        <p:blipFill>
          <a:blip r:embed="rId3"/>
          <a:stretch/>
        </p:blipFill>
        <p:spPr>
          <a:xfrm>
            <a:off x="4859280" y="2708280"/>
            <a:ext cx="1298520" cy="42876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7"/>
          <p:cNvSpPr/>
          <p:nvPr/>
        </p:nvSpPr>
        <p:spPr>
          <a:xfrm>
            <a:off x="1627920" y="364500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затем найдём истинные токи во всех ветв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етви, где действует э.д.с. ,Е1 истинных то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меет направление контурного то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рав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ветви с сопротивлени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тинный то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меет направление контурного то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рав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етви с сопротивлени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тинный то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меет направление, противоположное контурному то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рав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етви с сопротивлени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тинный то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учится от наложения контурных ток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будет иметь направление большего контурного то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4"/>
              <p:cNvSpPr txBox="1"/>
              <p:nvPr/>
            </p:nvSpPr>
            <p:spPr>
              <a:xfrm>
                <a:off x="7524720" y="1916280"/>
                <a:ext cx="122400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6877080" y="2492280"/>
                <a:ext cx="129528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8"/>
              <p:cNvSpPr txBox="1"/>
              <p:nvPr/>
            </p:nvSpPr>
            <p:spPr>
              <a:xfrm>
                <a:off x="1835280" y="3429000"/>
                <a:ext cx="18000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8" name="Picture 10" descr=""/>
          <p:cNvPicPr/>
          <p:nvPr/>
        </p:nvPicPr>
        <p:blipFill>
          <a:blip r:embed="rId1">
            <a:biLevel thresh="50000"/>
            <a:lum bright="-12000"/>
          </a:blip>
          <a:stretch/>
        </p:blipFill>
        <p:spPr>
          <a:xfrm>
            <a:off x="2050920" y="5013360"/>
            <a:ext cx="4824720" cy="56196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86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Искомое сопроти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2700360" y="3429000"/>
            <a:ext cx="3600360" cy="7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этого уравнения контурных токов следует записать в форме (1.11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757800" y="385992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7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4464000" cy="6825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"/>
          <p:cNvPicPr/>
          <p:nvPr/>
        </p:nvPicPr>
        <p:blipFill>
          <a:blip r:embed="rId2"/>
          <a:stretch/>
        </p:blipFill>
        <p:spPr>
          <a:xfrm>
            <a:off x="2268360" y="3068640"/>
            <a:ext cx="4175280" cy="6699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9" descr=""/>
          <p:cNvPicPr/>
          <p:nvPr/>
        </p:nvPicPr>
        <p:blipFill>
          <a:blip r:embed="rId3"/>
          <a:stretch/>
        </p:blipFill>
        <p:spPr>
          <a:xfrm>
            <a:off x="2556000" y="3645000"/>
            <a:ext cx="3603600" cy="501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0" descr=""/>
          <p:cNvPicPr/>
          <p:nvPr/>
        </p:nvPicPr>
        <p:blipFill>
          <a:blip r:embed="rId4"/>
          <a:stretch/>
        </p:blipFill>
        <p:spPr>
          <a:xfrm>
            <a:off x="1332000" y="4365720"/>
            <a:ext cx="2908080" cy="4539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1" descr=""/>
          <p:cNvPicPr/>
          <p:nvPr/>
        </p:nvPicPr>
        <p:blipFill>
          <a:blip r:embed="rId5"/>
          <a:stretch/>
        </p:blipFill>
        <p:spPr>
          <a:xfrm>
            <a:off x="250920" y="5950080"/>
            <a:ext cx="3562200" cy="4190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2" descr=""/>
          <p:cNvPicPr/>
          <p:nvPr/>
        </p:nvPicPr>
        <p:blipFill>
          <a:blip r:embed="rId6"/>
          <a:stretch/>
        </p:blipFill>
        <p:spPr>
          <a:xfrm>
            <a:off x="4284720" y="4365720"/>
            <a:ext cx="3209760" cy="374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3" descr=""/>
          <p:cNvPicPr/>
          <p:nvPr/>
        </p:nvPicPr>
        <p:blipFill>
          <a:blip r:embed="rId7"/>
          <a:stretch/>
        </p:blipFill>
        <p:spPr>
          <a:xfrm>
            <a:off x="1332000" y="4797360"/>
            <a:ext cx="6229440" cy="6285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4" descr=""/>
          <p:cNvPicPr/>
          <p:nvPr/>
        </p:nvPicPr>
        <p:blipFill>
          <a:blip r:embed="rId8"/>
          <a:stretch/>
        </p:blipFill>
        <p:spPr>
          <a:xfrm>
            <a:off x="1116000" y="5373720"/>
            <a:ext cx="3533760" cy="457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5" descr=""/>
          <p:cNvPicPr/>
          <p:nvPr/>
        </p:nvPicPr>
        <p:blipFill>
          <a:blip r:embed="rId9"/>
          <a:stretch/>
        </p:blipFill>
        <p:spPr>
          <a:xfrm>
            <a:off x="4716360" y="5373720"/>
            <a:ext cx="3343320" cy="409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6" descr=""/>
          <p:cNvPicPr/>
          <p:nvPr/>
        </p:nvPicPr>
        <p:blipFill>
          <a:blip r:embed="rId10"/>
          <a:stretch/>
        </p:blipFill>
        <p:spPr>
          <a:xfrm>
            <a:off x="3708360" y="5950080"/>
            <a:ext cx="2416320" cy="3934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7" descr=""/>
          <p:cNvPicPr/>
          <p:nvPr/>
        </p:nvPicPr>
        <p:blipFill>
          <a:blip r:embed="rId11"/>
          <a:stretch/>
        </p:blipFill>
        <p:spPr>
          <a:xfrm>
            <a:off x="6012000" y="5877000"/>
            <a:ext cx="280656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етви с сопротивлени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тинный то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учится от наложения контурных ток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будет иметь направление большего контурного то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>
            <a:biLevel thresh="50000"/>
            <a:lum bright="-12000"/>
          </a:blip>
          <a:stretch/>
        </p:blipFill>
        <p:spPr>
          <a:xfrm>
            <a:off x="1763640" y="2924280"/>
            <a:ext cx="5327640" cy="58248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sp>
        <p:nvSpPr>
          <p:cNvPr id="316" name="Rectangle 5"/>
          <p:cNvSpPr/>
          <p:nvPr/>
        </p:nvSpPr>
        <p:spPr>
          <a:xfrm>
            <a:off x="824400" y="3787920"/>
            <a:ext cx="71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жем, как эта же задача может быть реш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определени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7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229520" cy="1898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"/>
          <p:cNvPicPr/>
          <p:nvPr/>
        </p:nvPicPr>
        <p:blipFill>
          <a:blip r:embed="rId2"/>
          <a:stretch/>
        </p:blipFill>
        <p:spPr>
          <a:xfrm>
            <a:off x="611280" y="3500280"/>
            <a:ext cx="806436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коны Ома и Кирхгофа. Баланс мощ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1.15 В схеме моста (рис. 1.24) известны сопротивлен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1300 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ом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800 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ом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400 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ом. Сопротивление гальванометр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600 ом. Через сопротивлени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протекает ток  І1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1 ма. К мосту приложено напряжение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2,5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в. Найти сопротивлени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269568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9:00:56Z</dcterms:created>
  <dc:creator>1</dc:creator>
  <dc:description/>
  <dc:language>en-US</dc:language>
  <cp:lastModifiedBy>Админ</cp:lastModifiedBy>
  <dcterms:modified xsi:type="dcterms:W3CDTF">2012-01-20T15:01:44Z</dcterms:modified>
  <cp:revision>17</cp:revision>
  <dc:subject/>
  <dc:title>Слайд 1</dc:title>
</cp:coreProperties>
</file>